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A9C-099D-4701-9E66-FCF0265F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28D-6469-4752-8620-640EAB6A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0A0-025F-41EB-9F10-129C48C0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68B-2CB9-4631-9732-11A537EF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D07-83A0-4571-AB51-3A8DFF4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73F-F61D-4F25-AD3E-5238287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226-A6F8-4695-9CCC-88D4F861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197-2B9B-4B6F-A3D7-3D310CCC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93C-03D2-4FC6-AC2A-4A651240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3C6-6649-4A1E-B5CE-124ED49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033-1C71-4509-AE96-52609AA8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F83-AB6B-4296-867A-BEE646F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DDD0-B7A5-4624-B41D-FF3F0F14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7920" y="4876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ody Stew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es was wrong because most people chose Tw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Candy &amp; Gum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hie McPhee &amp; Co.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ys, Gifts &amp; Novel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b. 15 Fe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mcphee.com/shop/categ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/Candy-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rick Candy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g Gifts, Funny T-Shirts pl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anks and Gags at PrankPlace Gag Fu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b. 15 Feb. 20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prankplace.com/subcategory.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x?c=32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Knitty.com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nitty: Winter 20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eb. 15 Feb. 20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knitty.com/ISSUEwinter04/PATTcan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&gt;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what kind of candy  people like the 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gender have on what kind of candy do they like the m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y &amp; g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most people will choose choco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97440" y="3860640"/>
            <a:ext cx="3346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Gather al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sk 20 people to choose one of the pieces of candy that is their favo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cord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ant- who likes what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-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-3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ses-5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ttles-5 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M-1             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x-6             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3782880"/>
            <a:ext cx="4724280" cy="307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35:37Z</dcterms:created>
  <dc:creator>USD376</dc:creator>
  <dc:description/>
  <dc:language>en-US</dc:language>
  <cp:lastModifiedBy>USD376</cp:lastModifiedBy>
  <dcterms:modified xsi:type="dcterms:W3CDTF">2011-02-16T14:32:02Z</dcterms:modified>
  <cp:revision>7</cp:revision>
  <dc:subject/>
  <dc:title>Candy</dc:title>
</cp:coreProperties>
</file>